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7E4-377E-4372-934E-4A3A61D2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021-B358-4CF1-935B-BBCF811C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FFD-AEE1-4843-8D50-F3DB44A0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054-45E8-44B5-84A8-851A08F9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3E0-E1D7-4895-8D47-49F6E292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172-49ED-4F1E-8F93-45F716B7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A4F-65AE-464D-A952-DB4B4143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768-66DE-4594-A986-306BCC6D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EE6-A50A-414C-8AF2-0552BBCF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531-2530-4FAC-BFFB-FA8EB55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32B-E97F-4DE4-A6DA-D477D277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343-8D6A-477E-A9F4-5E81B741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A141-613A-41B4-8DB1-7543D215A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3-1 Classifying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066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ubsta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4479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tter that alway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as exactly the same fixed, uniform composition (make-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209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able salt;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590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categories of pure substa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971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Elements:  substance which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annot be broken down in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impler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733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ixe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mposition because it only has one kind of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267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ompounds: substance that i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ade from 2 or mo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impler substances and can be broken down in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ose simpler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perties of a compoun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DIFFERENT tha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ose of the substance which make the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523880"/>
            <a:ext cx="7086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pounds ALWAY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ntain 2 or more elements joined in a FIXED proportion.  EX: H</a:t>
            </a:r>
            <a:r>
              <a:rPr b="0" lang="en-US" sz="24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62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bo of variou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ubstances (each stays as it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352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fixe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m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sal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88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categories of 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43434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s noticeabl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Homogeneous—substances evenl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istributed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ifficult to tell one substance from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600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ooks lik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ne sub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057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ater in a swimming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hlorine, wate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895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 homogenous mixtu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med when substances dis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indshield fluid –substance dissolves to form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038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495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terogeneous mixtu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at separates into layers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952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inegar and oil salad dressing – distinct layers after a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hile left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o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371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ubstance which contains som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icles that are intermediate (middle) in size between the smaller particles in a solution and the larger particles in a 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514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 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omogenized milk –fat la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048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g – water dro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2:40:34Z</dcterms:created>
  <dc:creator>jpak</dc:creator>
  <dc:description/>
  <dc:language>en-US</dc:language>
  <cp:lastModifiedBy>User</cp:lastModifiedBy>
  <dcterms:modified xsi:type="dcterms:W3CDTF">2010-10-06T15:50:47Z</dcterms:modified>
  <cp:revision>13</cp:revision>
  <dc:subject/>
  <dc:title>Note Guide 3-1 Classifying Matter</dc:title>
</cp:coreProperties>
</file>